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5A10A-4FAF-4B2C-939A-6189B1AF1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03EF3-A164-426E-A024-B21512224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4DE45-01B2-4B46-AB48-A70A74E1C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6EEF5-A184-48D2-ABDF-2C2E38568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514C5-AAA8-4052-82F0-28D8210BE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B976E-27AD-4600-A4AC-1BF118A6E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97DE9-98D1-48DD-94E8-74FF4A42E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B81DF-4C0B-4FA9-83BF-5ABFADEBE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18720-476D-4B34-8CAF-2753F59CA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23BE1-A4CF-476F-A99E-162A22413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0F874-735C-4009-92A8-0D91B1F66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8ADD6-AE69-4634-89CC-3145AED1F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4ED3-EDC8-4ED4-B3CA-61EDE8E3D4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pic>
        <p:nvPicPr>
          <p:cNvPr id="45" name="Picture 8" descr="comp_i"/>
          <p:cNvPicPr/>
          <p:nvPr/>
        </p:nvPicPr>
        <p:blipFill>
          <a:blip r:embed="rId1"/>
          <a:stretch/>
        </p:blipFill>
        <p:spPr>
          <a:xfrm>
            <a:off x="152280" y="3124080"/>
            <a:ext cx="3067200" cy="3067200"/>
          </a:xfrm>
          <a:prstGeom prst="rect">
            <a:avLst/>
          </a:prstGeom>
          <a:ln w="0">
            <a:noFill/>
          </a:ln>
        </p:spPr>
      </p:pic>
    </p:spTree>
  </p:cSld>
  <p:transition spd="slow" advTm="5000">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transition spd="slow" advTm="5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50"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transition spd="slow" advTm="5000">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s11b2</cp:lastModifiedBy>
  <dcterms:modified xsi:type="dcterms:W3CDTF">2012-06-18T11:00:37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